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gif" ContentType="image/gif"/>
  <Override PartName="/ppt/media/image6.jpeg" ContentType="image/jpeg"/>
  <Override PartName="/ppt/media/image8.png" ContentType="image/png"/>
  <Override PartName="/ppt/media/image5.jpeg" ContentType="image/jpeg"/>
  <Override PartName="/ppt/media/image7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3A89-D309-46B6-B501-70100496F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FF82-027B-4EDC-82CA-04D1FB081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602E-3407-49BC-93F2-A25494FD2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AA6F-2C0B-41B1-9DFB-6CA3AD489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39EA7-EA6E-4EE0-B6C6-9E8403040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6E49A-CAC4-4AEA-9C9C-9246C3EB9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3D589-7285-4B48-BA3E-E44D21FE7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760FF-3474-4C48-BD46-D07442CC3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1C1C6-B75E-43B3-B656-5CC4A8827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27FDB-2A43-4888-B52C-68E725783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98F2D-9019-440D-91F1-5D4D44CB5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EE3B-4EA2-4DF4-8390-D74677D25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4B7DA-160C-486D-8B58-88AFAE51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042F4-469D-40F7-A8F8-F6DAF65D5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F9A77-43E3-49F1-832B-EAE3CA6B6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1EEB7-8422-47E6-8EBF-8E55C18A6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9DE59-4FC6-4BA4-9617-833ED1A3D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AFF00-AE2D-4717-A3F5-E50D45F46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0AE88-B54D-41E9-859E-88D3F15F4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27837-41B2-46FB-9215-434507AD6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FC2A7-8FB3-451D-AB57-8BE5A252A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101DF-4E2B-4F2C-A1A9-42A2F0400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32AD-9139-4758-A911-77DA36068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804F5-AA80-4C2D-8B59-C92F5FAF1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EAC4C-28A3-4BA5-AA55-F85F05E4C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60CC2-ED2E-4766-8806-D6255952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28030-FE27-4C0E-9D0F-A4AD99607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58DFE-2699-41F7-AF10-F49667FE9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FA7C4-7116-4219-B75B-3B0A66AD8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1CC55-A277-45E3-AFB9-0566D5222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17BA-E699-4B5B-9D57-C3D9D632F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1EA0-B6F3-4981-854E-444F5F76C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D681-1DC1-46D9-8098-A9EADB1AB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789E-AB2C-4242-96A2-08F0969FD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CB35-1B69-41B5-8AEF-081A64A6E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563E-6A22-423A-9E05-EBCDD9F3F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C31E1-C195-42C3-8775-71AEA8499F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16058-A5EB-486C-B46B-D89887E219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CEC4B-C6F2-4C5E-BAF4-FB5CD3BC35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0" y="55468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Alfredo's Dance"/>
              </a:rPr>
              <a:t>Estou a muda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549360"/>
            <a:ext cx="78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lfredo's Dance"/>
              </a:rPr>
              <a:t>Etapas da Adolescênci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1916280"/>
            <a:ext cx="8280360" cy="437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meça a compreender-se e a encontrar-se a si mesmo e sente melhor a integração no mundo onde viv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presenta um significativo progresso na superação da timidez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É mais sereno na sua condut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m maior auto-domíni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É a época das decisões: futuro, estudos; começa a projectar a vid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stabelece relações mais pessoais e profun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4000" y="1413000"/>
            <a:ext cx="828036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9900"/>
                </a:solidFill>
                <a:uFillTx/>
                <a:latin typeface="Arial"/>
              </a:rPr>
              <a:t>c) A Adolescência superior (16 a 22 an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27082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lfredo's Dance"/>
              </a:rPr>
              <a:t>Que alterações físicas se verificam durante a adolescência?</a:t>
            </a:r>
            <a:r>
              <a:rPr b="0" lang="en-US" sz="6000" spc="-1" strike="noStrike">
                <a:solidFill>
                  <a:srgbClr val="000000"/>
                </a:solidFill>
                <a:latin typeface="Alfredo's Dance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8268" b="0"/>
          <a:stretch/>
        </p:blipFill>
        <p:spPr>
          <a:xfrm>
            <a:off x="0" y="0"/>
            <a:ext cx="9144000" cy="23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476280"/>
            <a:ext cx="9144000" cy="0"/>
          </a:xfrm>
          <a:prstGeom prst="line">
            <a:avLst/>
          </a:prstGeom>
          <a:ln w="7632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7667640" y="0"/>
            <a:ext cx="147636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0" y="0"/>
            <a:ext cx="76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fredo's Dance"/>
              </a:rPr>
              <a:t>Rapaz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627840"/>
            <a:ext cx="75931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rapaz fica mais alt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assa muscular desenvolve-s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tórax e os ombros alargam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indo-se pilosidade nos membros superiores e inferiores, nas axilas e no pei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voz torna-se mais grav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barba começa a despontar e por vezes também as desagradáveis borbulh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 geralmente entre os 12 e os 15 anos, que começam a ocorrer as ejaculações nocturnas, ou seja emissões de esperma, provocadas pelo conteúdo de sonhos, que podem ser de carácter sexual e erótico. Este acontecimento é perfeitamente normal e é indicativo de que já há produção de esperma e capacidade de ejacul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5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5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" dur="5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476280"/>
            <a:ext cx="9144000" cy="0"/>
          </a:xfrm>
          <a:prstGeom prst="line">
            <a:avLst/>
          </a:prstGeom>
          <a:ln w="7632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0"/>
            <a:ext cx="76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fredo's Dance"/>
              </a:rPr>
              <a:t>Rapari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1340640"/>
            <a:ext cx="759312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Os seios desenvolvem-s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aparecem os pêlos do púbis e das axilas e inicia-se a menstrua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Paralelamente à aparição de pêlos, produz-se uma modificação interna dos órgãos genitais, aumentando o tamanho dos ovários e do úte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A mucosa vaginal transforma-se os grandes lábios desenvolvem-se e os pequenos pigmentam-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O clitóris cresce e torna-se sensí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No final da puberdade o corpo de uma rapariga é já o de uma mul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7"/>
          <a:stretch/>
        </p:blipFill>
        <p:spPr>
          <a:xfrm>
            <a:off x="7659720" y="0"/>
            <a:ext cx="1484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0"/>
                            </p:stCondLst>
                            <p:childTnLst>
                              <p:par>
                                <p:cTn id="16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600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65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476280"/>
            <a:ext cx="9144000" cy="0"/>
          </a:xfrm>
          <a:prstGeom prst="line">
            <a:avLst/>
          </a:prstGeom>
          <a:ln w="7632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76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fredo's Dance"/>
              </a:rPr>
              <a:t>Rapari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907200"/>
            <a:ext cx="759312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a aceleração sensível do crescimento ósseo ocorre sob a influência das hormon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a-se que uma rapariga, dos 10 aos 14 anos pode crescer entre 5 e 11 centímetros por ano. Isto significa que desde o início da puberdade pode crescer de 15 a 20 centímet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bacia alarga, enquanto que o alto do corpo se torna mais fino, sendo possível um certo aumento de pe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gorduras, por seu lado, vão-se espalhando, localizando-se nas ancas , na bacia e nas cox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gumas raparigas vêm nessa altura surgir celulite e estrias na p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6"/>
          <a:stretch/>
        </p:blipFill>
        <p:spPr>
          <a:xfrm>
            <a:off x="7659720" y="0"/>
            <a:ext cx="1484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9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4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9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4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9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1052640"/>
            <a:ext cx="914400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 u="sng">
                <a:solidFill>
                  <a:srgbClr val="ffff00"/>
                </a:solidFill>
                <a:uFillTx/>
                <a:latin typeface="Thickhead"/>
              </a:rPr>
              <a:t>Tipos de Mudança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012000" y="189000"/>
            <a:ext cx="31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dança de Escol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2000" y="2349360"/>
            <a:ext cx="31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dança de Paí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3640" y="112536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dança de Namorad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386064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dança de Amigo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5084640"/>
            <a:ext cx="31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dança de Turm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843280" y="6021360"/>
            <a:ext cx="31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dança de Carr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260280"/>
            <a:ext cx="31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dança de cas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843280" y="4365720"/>
            <a:ext cx="31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dança de atitud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12000" y="5157720"/>
            <a:ext cx="31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dança de Humo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1989000"/>
            <a:ext cx="31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dança de Estilo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843280" y="2279520"/>
            <a:ext cx="3313080" cy="22035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0" y="5661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lfredo's Dance"/>
              </a:rPr>
              <a:t>Será a mudança algo problemátic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549360"/>
            <a:ext cx="78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lfredo's Dance"/>
              </a:rPr>
              <a:t>Definição de Adolescê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5280" y="155736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É um período da vida, que começa aos 12 e vai até aos 19 a nos, onde acontecem </a:t>
            </a:r>
            <a:r>
              <a:rPr b="1" lang="en-US" sz="2400" spc="-1" strike="noStrike">
                <a:solidFill>
                  <a:srgbClr val="ff9900"/>
                </a:solidFill>
                <a:latin typeface="Arial Narrow"/>
              </a:rPr>
              <a:t>diversas mudanças físicas, psicológicas e comportamentais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5280" y="3284640"/>
            <a:ext cx="82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É uma extraordinária etapa na vida de todas as pessoas. É nela que a pessoa </a:t>
            </a:r>
            <a:r>
              <a:rPr b="1" lang="en-US" sz="2400" spc="-1" strike="noStrike">
                <a:solidFill>
                  <a:srgbClr val="ff9900"/>
                </a:solidFill>
                <a:latin typeface="Arial Narrow"/>
              </a:rPr>
              <a:t>descobre a sua identidade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e </a:t>
            </a:r>
            <a:r>
              <a:rPr b="1" lang="en-US" sz="2400" spc="-1" strike="noStrike">
                <a:solidFill>
                  <a:srgbClr val="ff9900"/>
                </a:solidFill>
                <a:latin typeface="Arial Narrow"/>
              </a:rPr>
              <a:t>define a sua personalidade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. Nesse processo,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manifesta-se a crise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, na qual se </a:t>
            </a:r>
            <a:r>
              <a:rPr b="1" lang="en-US" sz="2400" spc="-1" strike="noStrike">
                <a:solidFill>
                  <a:srgbClr val="ff9900"/>
                </a:solidFill>
                <a:latin typeface="Arial Narrow"/>
              </a:rPr>
              <a:t>reformulam os valores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adquiridos na infância e </a:t>
            </a:r>
            <a:r>
              <a:rPr b="1" lang="en-US" sz="2400" spc="-1" strike="noStrike">
                <a:solidFill>
                  <a:srgbClr val="ff9900"/>
                </a:solidFill>
                <a:latin typeface="Arial Narrow"/>
              </a:rPr>
              <a:t>se assimilam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numa nova estrutura mais madu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549360"/>
            <a:ext cx="78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lfredo's Dance"/>
              </a:rPr>
              <a:t>Etapas da Adolescênci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95280" y="2133720"/>
            <a:ext cx="8280360" cy="37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asce a intimidade – desperta o próprio eu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rise de crescimento físico, psíquico e maturação sexu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ão há ainda consciência daquilo que se está a passa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nhece pela primeira vez as suas limitações e fraquez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sequilíbrio nas emoções, que se reflecte na sensibilidade exagerada e na irritabilidade de caráct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4000" y="1413000"/>
            <a:ext cx="828036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125"/>
              </a:spcBef>
              <a:buClr>
                <a:srgbClr val="ff99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9900"/>
                </a:solidFill>
                <a:uFillTx/>
                <a:latin typeface="Arial"/>
              </a:rPr>
              <a:t>A puberdade ou adolescência inicial (11 a 14 an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549360"/>
            <a:ext cx="78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lfredo's Dance"/>
              </a:rPr>
              <a:t>Etapas da Adolescênci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413000"/>
            <a:ext cx="8280360" cy="17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ão sintonia” com o mundo dos adult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fugia-se no isolamento ou no grupo de companheiros de estudo, ou integra-se num grupo de amig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549360"/>
            <a:ext cx="78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lfredo's Dance"/>
              </a:rPr>
              <a:t>Etapas da Adolescênci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4000" y="1916280"/>
            <a:ext cx="8280360" cy="39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o despertar do “eu” passa-se à descoberta consciente do “eu”, ou da própria intimidade. Dá-se lugar à introversão, existe a necessidade de viver dentro de si mesm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parece a necessidade de amar. Por norma, “surge o primeiro namoro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 timidez é característica desta fas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nflito interior ou da personalida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1413000"/>
            <a:ext cx="828036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9900"/>
                </a:solidFill>
                <a:uFillTx/>
                <a:latin typeface="Arial"/>
              </a:rPr>
              <a:t>b) A adolescência média (13 a 17 an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549360"/>
            <a:ext cx="78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lfredo's Dance"/>
              </a:rPr>
              <a:t>Etapas da Adolescênci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5280" y="1341360"/>
            <a:ext cx="82803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mportamentos negativos, de inconformismo e agressividade para com os outros. Causados pela frustração de não poderem valer-se a si mesm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1T21:20:04Z</dcterms:created>
  <dc:creator>Sonia Neves</dc:creator>
  <dc:description/>
  <dc:language>en-US</dc:language>
  <cp:lastModifiedBy>Sonia Neves</cp:lastModifiedBy>
  <dcterms:modified xsi:type="dcterms:W3CDTF">2003-10-08T21:28:36Z</dcterms:modified>
  <cp:revision>8</cp:revision>
  <dc:subject/>
  <dc:title>Diapositivo 1</dc:title>
</cp:coreProperties>
</file>